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7095-DBDA-43CD-9B25-1CE64F4D69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B7EE-55DB-4EED-BF06-44F2D632F3B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4CB-1BD8-471A-919B-6B3BC295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E42-CED5-4A90-9732-D5DD8610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396C-2F96-4162-8593-65FE3B46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8139-9B50-4B18-91E2-6C29628B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446D-EA25-4B3E-83B3-B583C06C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5151-18FF-47B3-B852-F81BE623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FF81-2B98-41DA-9E47-475DAB42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017E-46CE-466D-9BE6-7C31A383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E2D6-8405-49C4-ADE5-586BCEA2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1F68-7FB4-4619-90BF-0D9F1B9A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7366-9C97-4A99-AD16-1EE89E29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1DE-1FBE-4542-9694-59C7B29B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2BAA-5F3B-4174-86F2-28B5B297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1492-6F51-4A91-B9AA-B1738CBC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CF2E-25E7-45E8-96F8-30FB4C93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CDC8-D713-4540-B8F1-E36223A7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5831-A03D-4C0F-AA2F-10534FFA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57929-95D2-4B2C-900C-F9B522E3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B17F6-60E3-42D9-8F8F-B8039430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FFD10-2295-4D78-A2B4-50994B8E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1208D-866A-486C-BCE2-81555D9C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83CFB-3AD1-4288-A9EB-43C0714B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098-E2CF-493E-8A3C-D7723B69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EA3E9-08FF-4B08-9B40-FF358129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BD260-B154-4B3B-9531-8A96BF39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463B6-E04F-4A48-9501-D0BB2B73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47092-B601-4B6D-BAFA-41B246B1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0AAC0-5584-4871-A43D-6F545F3C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04958-6104-4829-A00B-D69D7936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9CC21-684B-4F10-9500-DD9E2874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AE0D7C-71FF-4A02-9235-19EE4A2C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4BF57F-C2C4-427B-BCA0-B011BCC7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9D258F-C8DF-4F8A-BBA5-082449E7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52D-A861-4435-81A9-6610090B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E99EA7-FF02-413C-8A9D-06A4817A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F3268F-5748-49E4-893C-48849036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9D2CE-88B1-4EA5-ADA9-06C3F910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12D5F4-BB25-4C2B-B1F0-AE122CF4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50537D-CB5C-4A7A-B423-D9070789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04394B-4A66-473C-AFC0-D2EE10FC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B187CC-CC6F-4D70-9DFD-AA827D0A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8DDA35-10FE-458E-B0F6-B1797E54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3B03B4-2693-4652-A16E-EE4F9D37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8321-DD62-4DDD-A800-03A597D1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41B1-86E2-487B-AFEB-CEB78BEE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434-2726-40D1-B6C5-8F2E5948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A1F-A9E0-4854-BBFD-3FCE8F90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8D1-AC0C-425A-B4EB-0B49A72E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DF55-6004-4CFA-B451-7CA5264563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C80F-D190-49B5-9929-F36E904A7E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033A-7DF0-4A0A-B885-F627A781E5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3BF0-8FCB-4768-B836-E91427DD17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404640"/>
            <a:ext cx="80010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олнительные с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жно получит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-mail: sharabidze.n@serbsky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тел. 8(495) 637-58-4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й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ГБУ «НМИЦПН им. В.П. Сербского» Минздрава России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bsky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ПЦ ПЗДП ДЗМ или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pb6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(495) 952-54-3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ки программы ТЕРПИНС-9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запустить установочный фай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SETUP_TERPINS9.EX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Наталья Викторовна Лазько</cp:lastModifiedBy>
  <cp:lastPrinted>2017-12-07T17:18:35Z</cp:lastPrinted>
  <dcterms:modified xsi:type="dcterms:W3CDTF">2020-11-23T13:09:44Z</dcterms:modified>
  <cp:revision>801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